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  <p:sldId id="286" r:id="rId64"/>
    <p:sldId id="287" r:id="rId65"/>
    <p:sldId id="288" r:id="rId66"/>
    <p:sldId id="289" r:id="rId67"/>
    <p:sldId id="290" r:id="rId68"/>
    <p:sldId id="291" r:id="rId69"/>
    <p:sldId id="292" r:id="rId7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slide" Target="slides/slide31.xml"/><Relationship Id="rId65" Type="http://schemas.openxmlformats.org/officeDocument/2006/relationships/slide" Target="slides/slide32.xml"/><Relationship Id="rId66" Type="http://schemas.openxmlformats.org/officeDocument/2006/relationships/slide" Target="slides/slide33.xml"/><Relationship Id="rId67" Type="http://schemas.openxmlformats.org/officeDocument/2006/relationships/slide" Target="slides/slide34.xml"/><Relationship Id="rId68" Type="http://schemas.openxmlformats.org/officeDocument/2006/relationships/slide" Target="slides/slide35.xml"/><Relationship Id="rId69" Type="http://schemas.openxmlformats.org/officeDocument/2006/relationships/slide" Target="slides/slide36.xml"/><Relationship Id="rId70" Type="http://schemas.openxmlformats.org/officeDocument/2006/relationships/slide" Target="slides/slide3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30A868-BA52-43A1-972B-162FC0159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C62186-01D8-41D3-BE58-971B47CE5AA4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E49B-7F19-4802-8D38-8D117197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F86B-F1FB-45E2-9DA0-CA8C0055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45D1-FFAB-4853-94BA-20CB90FF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7D7B-CBDA-43A9-AF29-96FA15B2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FD6C-3D6A-4669-8990-42B8B819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6363-2B8D-446E-8D93-3175810D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572-A8DE-437B-B09A-265166CA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6E5C-6311-47A0-A283-633737D0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16C8-FD91-404E-BBC2-691B5BE0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ED23-E0FE-48EE-B443-0EC187D1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38B4-AD7B-499A-AEA9-743C21E3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C12F-EA5D-47ED-99B4-73B8AA4E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E1A5-795A-4F42-B7AE-77988CB7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300A-E242-42B9-A015-DBFC1007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57BB-1091-462D-880D-EE6EF169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5719-E25E-49EC-B60A-415AE2F9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DC87-5A82-4F18-BFE5-63A759B7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2998-521B-4F71-A93F-EA228CD4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A1F1-F8DF-44A0-91D8-B982DFC8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D121-DAD5-48BB-81F5-DFE68E22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0352-22D0-4B93-BBD2-81CACDDA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531B-8CCE-4D3B-94B0-CB4505EB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B3DC-F087-47D1-A973-A528D96B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71AD-F3B5-497F-BAF1-36A4A890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60" name="Picture 5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6027F642-4897-46A4-BE2F-C712191EA94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024F99AD-1AAD-445C-8B24-D2A548413483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0EF0FB88-93EF-4FCC-83A1-735E3706BD18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692ADBBF-A70B-47B8-AF29-66FA08AFC555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E49AB60E-450D-49B1-9694-133E71A5961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802C81F1-F036-4EF7-8D09-63D14F11B8F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C5DA0C10-C691-4BD6-9130-5C612A219B2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24D418F9-EBFD-4BBE-8F8C-92564249412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4E87B759-57DE-4806-A121-56F90BB33E1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1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984D9D53-8206-4EF8-B8AC-076C36FEB30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8F7938C6-29B1-4BD3-A303-375B994B8B6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A5C0D152-CF87-4A1F-B563-3C21E1F7855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9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FB9B3087-94F7-4240-94BD-2D44DE7F03B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3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F12D4A19-3E9D-46E6-9BA4-F54E28D80653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52165CA2-8F43-483C-8D35-781377C6F50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13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A33D-3F65-47BC-9A6D-6252BC190BF4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22C164D4-87E9-4EE1-8F59-B7C6F46DE05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56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5989-B161-4A8A-8ED6-2586CBFF16ED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7675B0DB-4B3C-4128-9A55-6836A755A4E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9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2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8" name="Rectangle 10"/>
          <p:cNvSpPr/>
          <p:nvPr/>
        </p:nvSpPr>
        <p:spPr>
          <a:xfrm>
            <a:off x="685800" y="320040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Работа с медиите. Практически съвети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Паола Хюсеин, редактори култура и оживление, в-к 24 час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Елена Брайкова, </a:t>
            </a: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Старши Акаунт мениджър и Връзки с институции, </a:t>
            </a: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Юнайтед Партнърс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 иска информацията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914400" y="33523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Кратко, точно, ясно!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ИЗ "УПРАЖНЕНИЯ ПО СТИЛ"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РЕЙМОН КЬОНО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 автобус по южната линия в един от натоварените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часове. Тип на двадесет и шест години - мека шапка с шнур, заместващ панделката; прекалено дълъг врат, сякаш са го разтягали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Хората слизат. Въпросният тип се сърди на един съсед. Упреква го, че го блъска всеки път, щом мине някой. Хленчещ тон, а му се иска да е зъл. Като вижда едно свободно място, се спуска към него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ва часа по-късно го срещам отново - на Римския площад, пред гара Сен Лазар. Той е с един приятел, който му казва: "Ще трябва да сложиш още едно копче на сакото си". Обяснява му къде (на скъсаното място) и защо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АНОТАЦИЯ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4300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Гъстонаселено се автотранспортирах в общоизвестното южнопарижко направление и се самоозовах близкостоящ до един дълговрат плетеноширитен дръжмишапковец. Гореописания трагикомично слаботелесен нехранимайко с плиткодънна многозначителност умопомрачи едикой си с долуказаното: "Както целенасочено своеволничите, вие злоупотребявате с телосложението ми нееднократно!"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животрептящото си словоизлияние преждеговорившия правостоящ скорострелно се облагодетелствува от една обезлюдила се междувременно едноместна автоседалка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двучасово времетраене мимоходом го лицезрях да площадосенлазарствува с един гологлав доброжелател, който нравоучително и чистосърдечно празнословеше: "Целесъобразно е да прекомплектоваш по-благоразумно полушубката си!" И умозаключително изсладкодумничи причиноследствената взаимовръз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СЛОЖНОДУМН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като пуснах корени от чакане под цъфналия слънчоглед, аз се ашладисах на една тиквичка по пътя за Чам дере. Там се натъкнах на избуяла кратуна, чийто лимоненожълт плод стърчеше с увита около него лиана. Този ми ти пъпеш наряза като краставица един репон, който му тъпчел лехите и му газел лука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Но за да не вади кестените от огъня, той си обра крушите и се насади в един парцел за лично ползуван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-късно го видях пред Женския пазар, направен на бъзе и коприва, защото имаше на палтото си нещо, което не беше цвете за мирис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БОТАНИЧЕСКИ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002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Иска да научи повече от това, което му поднасяте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отличен изследовател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Бързо “влиза в ритъм” по отношение на дадената информация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Разработва и използва различни източници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Пише при определен краен срок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само един журналист в контекста на цялостния процес по публикация на материал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Всеки добър журналист: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1860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Много от хората в тази професия са и си остават идеалист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Настроени са срещу бизнеса, срещу печалбата, срещу властит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по принцип са цинично настрое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Те са самовлюбени, с предразсъдъци, субективност, и са свръхчувствителни на тема състезание с колегите с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Работят много часове, имат кратки крайни сроков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често работят сам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Професията им не поощрява екипен дух в корпоративен стил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Са хора, като всички останали!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Но имайте предвид, че...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Придържайки се към </a:t>
            </a:r>
            <a:r>
              <a:rPr b="1" lang="ru-RU" sz="2400" spc="-1" strike="noStrike">
                <a:solidFill>
                  <a:srgbClr val="00b0f0"/>
                </a:solidFill>
                <a:latin typeface="Verdana"/>
              </a:rPr>
              <a:t>четиристранния тест </a:t>
            </a: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за онова което мислим, говорим или правим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1.Това ли е истинат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2.Справедливо ли е спрямо всички, които засяг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3.Ще създаде ли това добронамереност и по-добри приятелств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4.Ще бъде ли от полза за всички, които засяга?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Затова се отнасяйте с тях,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282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даването на информацията често е не по-малко важно от съдържанието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 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майте отлични познания по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верени и вдъхвайте респек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Избягвайте поведение на арогантност / превес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чтиви, дръжте се приятно през цялото врем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оменяйте изказа според контекста на въпроси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авайте колкото се може по-прости и кратки комента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идържайте се към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Сведете до минимум техническия жарго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емонстрирайте спокой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т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ставяйте “да ви хванат”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телно изслушвайте въпросите!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збягвайте спонтанни неуверени отгово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дръжте прекалено приятелс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изказвайте лошо за трети стра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запълвайте ‘паузите’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риемете, че каквото казвате е “официално”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питвайте да поучавате или принизявате журналиста!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изпадайте в словоизлияни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Verdana"/>
              </a:rPr>
              <a:t>Lost in connection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1860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ечатни или записани интервю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мнете, че каквото и да кажете, то ще бъде съкратено / редактира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ерете се, че има повече време / място за подробни обясн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Ако е на запис, опитайте се да формулирате кратки изречения, за да избегнете заблуждаващо редактиран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нтервюта на живо: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мате само една възможност – бъдете подготвени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икновено имате по-малко време (за по-малко думи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Шансът за обосновка е по-малък, отколкото при печатно интервю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дварително си подгответе кратки ключови послания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стегнато и ясно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авете визуален елемент към речта: жестове, движения, удар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Внимавайте за езика на тялото си: бъдете уверени, прями, позитив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пози като ръце на хълбоци или сключени зад гла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“бариери” в общуването, като обръщане на друга страна или скръстване на ръц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емонстрирайте интерес към нещата, които казва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нервни жестове с ръцете или поставянето им пред лицето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вайте жестовете ви да са свободни, но контролирани, ако хората около вас са резервирани или нервни; избягвайте резки движения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Ако искате да “затоплите” атмосферата, стойте малко по-близо до другия (до интервюиращия)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Стремете се думите езикът на тялото ви да съвпадат, иначе ще изглеждате неискре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смихвайте се – уверените хора рядко гледат строго или сърдито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“Четете” по лицето на интервюиращия и съобразявайте отговорите си с това – все пак не сте в условията на вакуум!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Ако давате ТВ интервю, винаги внимавайте за следните нещ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ведението си, ако още сте пред камер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сядане, ставан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обличане – без ярки цветове, карета, раета и п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ледайте интервюиращия, не камерата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тправяне на посланието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емете инициати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ърво отправяйте най-силн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държайте това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аряй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огатявайте го с анекдоти, крилати фрази и д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кратко и яс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Развийте собствена техника на изказване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1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Контролирайте неща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ърво отговорете на въпроса, колкото може по-кратк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хвърлете се към ключов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речете ключовото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е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орете ключовото послание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28240" y="6667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зползвайте ОПП технология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Отговор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рехвърляне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слание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273" name="Picture 2" descr=""/>
          <p:cNvPicPr/>
          <p:nvPr/>
        </p:nvPicPr>
        <p:blipFill>
          <a:blip r:embed="rId1"/>
          <a:stretch/>
        </p:blipFill>
        <p:spPr>
          <a:xfrm>
            <a:off x="696960" y="2209680"/>
            <a:ext cx="7748640" cy="4181760"/>
          </a:xfrm>
          <a:prstGeom prst="rect">
            <a:avLst/>
          </a:prstGeom>
          <a:ln w="28440">
            <a:solidFill>
              <a:srgbClr val="005da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мери за “прехвърляне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Бих искал/а да подчерта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Най-важното е да се разбер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има нещо за отбелязване, то 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да добав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погледнем по-нататък, ще видим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не забравяме ,че…”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5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4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верете се, че знаете за какво ще ви интервюира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майте подготвени ключови послания / изявления и бъдете готови да ги повтаря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Говорете по възможно най-разбираем и лек начи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o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мнете, че: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Интервюто не е приятелски разговор!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Няма нещо, наречено “неофициално изявление”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Основни правила на интервюто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Комуникирайте посланието с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ставяйте ударение на ключови момен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клонявайте от тем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ръжте се като говорител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търпеливи и прятелски настро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яйте се с фак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ползвайте шеговити изрази, крилати мисли (с мярка!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ажавайте крайния срок на журналиста или времетраенето на интервюто, когато то е за електронна медиа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914400" y="36572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привлечете внимани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оказвайте раздразне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бранявайте по който и да е аспект от вашата рабо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никакви “неофициални” изявл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тговаряйте на въпроса с въпрос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бсъждайте неща, за които не сте упълномощ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предполoжения; кажете “не зная”, ако не зна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и правете шег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отговори от типа “без коментар”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Rectangle 2"/>
          <p:cNvSpPr/>
          <p:nvPr/>
        </p:nvSpPr>
        <p:spPr>
          <a:xfrm>
            <a:off x="14400" y="0"/>
            <a:ext cx="9144000" cy="990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не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ловко мълчание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се изнервяйте. Не казвайте повече от планираното, за да запълните тишината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двеждащи въпрос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Приемете или отхвърлете въпроса и се върнете към ключовото си послание / 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приемливи алтернатив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Отхвърляйт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e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всяка предложена алтернатива на отговор, като се връщате на ключовото си послание/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Коментар по изказванията на други хор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коментирайте нечии други изказвания. Придържайте се към посланието с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3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Хипотетични предполож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реагирайте на хипотетични предположения. Придържайте се към посланието с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твърждаване на чужда позиц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повтаряйте изказвания на журналиста. Променете изказването така че да служи на вашите цел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късвания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скайте възможност да довършите отговора си. Бъдете колкото се може по-кратк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Бързо задавани въпроси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Спрете потока от въпроси с жест. Отговорете на онзи въпрос, който е най-добър за вас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Грешни предположения и заключ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еднага посочете грешката и я подчертайте пред интервюиращия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Удар из засад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е необходимо да се съгласявате да давате интервю, ако времето и мястото не ви устройват. Предложете време и място, подходящи за вас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1860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•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роволчеството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заимодействието между хората в развитите и развиващите се стра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стни проекти или проекти на Фондацият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ждународните обучения на Rotary и обмен на участници по програмите (Младежки обмен, Ротари за световен мир, Стипендианти-посланици или Групово обучение за членове)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стории за хора, на които службата е помогнал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ейности в полза на ПолиоПлюс, особено в полио-ендемичните район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Да се върнем на историите на Ротари!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3"/>
          <p:cNvSpPr/>
          <p:nvPr/>
        </p:nvSpPr>
        <p:spPr>
          <a:xfrm>
            <a:off x="0" y="1371600"/>
            <a:ext cx="9144000" cy="37339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Добрата история е добра история, написана и на салфетка! 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3"/>
          <p:cNvSpPr/>
          <p:nvPr/>
        </p:nvSpPr>
        <p:spPr>
          <a:xfrm>
            <a:off x="0" y="990720"/>
            <a:ext cx="9144000" cy="487656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ace: </a:t>
            </a: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Първият лек шок на осъзнаване идва през лятото на 1994 г. с една ръчно написана бележка, оставена върху бюрото на Рой Андерсън. 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Бележката е от дистрибутор на компанията на западния бряг и гласи: "Някои клиенти се интересуват какво прави "Интерфейс" за околната среда. Какво да им отговарям?"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3"/>
          <p:cNvSpPr/>
          <p:nvPr/>
        </p:nvSpPr>
        <p:spPr>
          <a:xfrm>
            <a:off x="0" y="990720"/>
            <a:ext cx="9144000" cy="4572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Дори да ми е останал един-единствен долар, бих го инвестирал в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!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Verdana"/>
              </a:rPr>
              <a:t>Бил Гейтс 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Verdana"/>
              </a:rPr>
              <a:t>3 000 метра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Picture 7" descr="P0228413K_big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Picture 25" descr="P0228299N_big"/>
          <p:cNvPicPr/>
          <p:nvPr/>
        </p:nvPicPr>
        <p:blipFill>
          <a:blip r:embed="rId1"/>
          <a:stretch/>
        </p:blipFill>
        <p:spPr>
          <a:xfrm>
            <a:off x="685800" y="615960"/>
            <a:ext cx="7848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5" descr="P0203126N_big"/>
          <p:cNvPicPr/>
          <p:nvPr/>
        </p:nvPicPr>
        <p:blipFill>
          <a:blip r:embed="rId1"/>
          <a:stretch/>
        </p:blipFill>
        <p:spPr>
          <a:xfrm>
            <a:off x="380880" y="584280"/>
            <a:ext cx="8153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не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914400" y="37335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губите врем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108680" cy="5438520"/>
          </a:xfrm>
          <a:prstGeom prst="rect">
            <a:avLst/>
          </a:prstGeom>
          <a:ln w="0">
            <a:noFill/>
          </a:ln>
        </p:spPr>
      </p:pic>
      <p:sp>
        <p:nvSpPr>
          <p:cNvPr id="1239" name="Rectangle 3"/>
          <p:cNvSpPr/>
          <p:nvPr/>
        </p:nvSpPr>
        <p:spPr>
          <a:xfrm>
            <a:off x="4417920" y="43668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не е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 Google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са корпоративн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овините за продукт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искомасленият журнализъм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Безкофеинов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16a62"/>
                </a:solidFill>
                <a:latin typeface="Verdana"/>
              </a:rPr>
              <a:t>Вицепрезидентът на Innovation Хуан Антонио Гинер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9T16:18:53Z</dcterms:modified>
  <cp:revision>717</cp:revision>
  <dc:subject/>
  <dc:title>PowerPoint Presentation</dc:title>
</cp:coreProperties>
</file>